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74"/>
              </a:spcBef>
              <a:buNone/>
              <a:tabLst>
                <a:tab algn="l" pos="0"/>
                <a:tab algn="l" pos="4387680"/>
                <a:tab algn="l" pos="877572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0243-8049-41DA-8C77-28993FF4E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174"/>
              </a:spcBef>
              <a:buNone/>
              <a:tabLst>
                <a:tab algn="l" pos="0"/>
                <a:tab algn="l" pos="4387680"/>
                <a:tab algn="l" pos="877572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EB33-C41C-4B3E-B2CC-5A625BE9C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23D3-ADA0-48DF-A17A-B1D1B5DA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F748-98A3-438F-B2F7-97AA3EB7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660-1281-462C-83B5-14853942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90588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519560" y="950904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92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90588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519560" y="19825920"/>
            <a:ext cx="120124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BE1-C426-4B1C-8C9B-6DC7E796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716-41CF-474B-99EC-7FC1A2A0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3A5-F874-44AB-81AA-27E0D42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368-53CE-47AA-B227-F75F2CD4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87D-A1BB-4544-8AA6-F267EEB1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92560" y="2925720"/>
            <a:ext cx="3730608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FF1-2461-4D4D-B863-67BCA16B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35B-DAA2-4C9D-AC7F-C8F0B4E4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08560" y="1982592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652-9AFB-4EBC-AF9F-5F828B9E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92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08560" y="9509040"/>
            <a:ext cx="1820520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92560" y="19825920"/>
            <a:ext cx="37306080" cy="94215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4C8-A192-4866-9F35-F272ED42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2560" y="2925720"/>
            <a:ext cx="37306080" cy="548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2560" y="9509040"/>
            <a:ext cx="37306080" cy="197517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 fontScale="99000"/>
          </a:bodyPr>
          <a:p>
            <a:pPr marL="1627920" indent="-1627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29440" indent="-135756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31320" indent="-108576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03200" indent="-108576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775080" indent="-108576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775080" indent="-108576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775080" indent="-108576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92560" y="2999268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995440" y="29992680"/>
            <a:ext cx="1390032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454640" y="29992680"/>
            <a:ext cx="9144000" cy="2193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00BE-0F0A-46B8-A087-7D0A371ECBC4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1"/>
          <p:cNvSpPr/>
          <p:nvPr/>
        </p:nvSpPr>
        <p:spPr>
          <a:xfrm>
            <a:off x="13563720" y="6172200"/>
            <a:ext cx="18288000" cy="1447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e6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8528920"/>
            <a:ext cx="43891200" cy="4389480"/>
          </a:xfrm>
          <a:prstGeom prst="rect">
            <a:avLst/>
          </a:prstGeom>
          <a:solidFill>
            <a:srgbClr val="003a6e"/>
          </a:solidFill>
          <a:ln w="9360">
            <a:solidFill>
              <a:srgbClr val="003a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240" bIns="219240" anchor="t">
            <a:noAutofit/>
          </a:bodyPr>
          <a:p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-762120" y="5943600"/>
            <a:ext cx="157273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lnSpc>
                <a:spcPct val="100000"/>
              </a:lnSpc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de6225"/>
                </a:solidFill>
                <a:latin typeface="Tahoma"/>
                <a:ea typeface="Tahoma"/>
              </a:rPr>
              <a:t>Collaboration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0"/>
            <a:ext cx="43891200" cy="5851440"/>
          </a:xfrm>
          <a:prstGeom prst="rect">
            <a:avLst/>
          </a:prstGeom>
          <a:solidFill>
            <a:srgbClr val="003a6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240" bIns="219240" anchor="t">
            <a:noAutofit/>
          </a:bodyPr>
          <a:p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0" y="90360"/>
            <a:ext cx="43891200" cy="77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ffffff"/>
                </a:solidFill>
                <a:latin typeface="Candara"/>
                <a:ea typeface="Tahoma"/>
              </a:rPr>
              <a:t>Making It Relevant: </a:t>
            </a:r>
            <a:br>
              <a:rPr sz="16000"/>
            </a:br>
            <a:r>
              <a:rPr b="0" lang="en-US" sz="16000" spc="-1" strike="noStrike">
                <a:solidFill>
                  <a:srgbClr val="ffffff"/>
                </a:solidFill>
                <a:latin typeface="Candara"/>
                <a:ea typeface="Tahoma"/>
              </a:rPr>
              <a:t>Creating Engaging IL Experiences for Students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9764080" y="5943600"/>
            <a:ext cx="157273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lnSpc>
                <a:spcPct val="100000"/>
              </a:lnSpc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de6225"/>
                </a:solidFill>
                <a:latin typeface="Tahoma"/>
                <a:ea typeface="Tahoma"/>
              </a:rPr>
              <a:t>Instruction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32994720" y="7620120"/>
            <a:ext cx="8991360" cy="0"/>
          </a:xfrm>
          <a:prstGeom prst="line">
            <a:avLst/>
          </a:prstGeom>
          <a:ln w="12600">
            <a:solidFill>
              <a:srgbClr val="de6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8840" rIns="438840" tIns="-219240" bIns="-219240" anchor="ctr">
            <a:noAutofit/>
          </a:bodyPr>
          <a:p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rcRect l="16805" t="33253" r="18640" b="25162"/>
          <a:stretch/>
        </p:blipFill>
        <p:spPr>
          <a:xfrm>
            <a:off x="685800" y="7924680"/>
            <a:ext cx="12092040" cy="5842080"/>
          </a:xfrm>
          <a:prstGeom prst="rect">
            <a:avLst/>
          </a:prstGeom>
          <a:ln w="25560">
            <a:solidFill>
              <a:srgbClr val="de6225"/>
            </a:solidFill>
            <a:miter/>
          </a:ln>
        </p:spPr>
      </p:pic>
      <p:sp>
        <p:nvSpPr>
          <p:cNvPr id="56" name="TextBox 12"/>
          <p:cNvSpPr/>
          <p:nvPr/>
        </p:nvSpPr>
        <p:spPr>
          <a:xfrm>
            <a:off x="14325480" y="6705720"/>
            <a:ext cx="16687800" cy="13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3a6e"/>
                </a:solidFill>
                <a:latin typeface="Tahoma"/>
                <a:ea typeface="Tahoma"/>
              </a:rPr>
              <a:t>Supported by a grant from Gettysburg College’s Johnson Center for Creative Teaching and Learning, two librarians and a professor redesigned a 300-level Health Sciences course. The main goal was to integrate </a:t>
            </a:r>
            <a:r>
              <a:rPr b="1" lang="en-US" sz="6300" spc="-1" strike="noStrike">
                <a:solidFill>
                  <a:srgbClr val="003a6e"/>
                </a:solidFill>
                <a:latin typeface="Tahoma"/>
                <a:ea typeface="Tahoma"/>
              </a:rPr>
              <a:t>information literacy</a:t>
            </a:r>
            <a:r>
              <a:rPr b="0" lang="en-US" sz="6300" spc="-1" strike="noStrike">
                <a:solidFill>
                  <a:srgbClr val="003a6e"/>
                </a:solidFill>
                <a:latin typeface="Tahoma"/>
                <a:ea typeface="Tahoma"/>
              </a:rPr>
              <a:t> (IL) throughout the assignments. Through the process of drafting grant proposals, students were required to identify and use a variety of information sources, including statistics, journal articles and intervention studies. The final product resulted in the students participating in a mock National Institutes of Health (NIH) peer review panel.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209680" y="7543800"/>
            <a:ext cx="9829800" cy="0"/>
          </a:xfrm>
          <a:prstGeom prst="line">
            <a:avLst/>
          </a:prstGeom>
          <a:ln w="12600">
            <a:solidFill>
              <a:srgbClr val="de6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8840" rIns="438840" tIns="-219240" bIns="-219240" anchor="ctr">
            <a:noAutofit/>
          </a:bodyPr>
          <a:p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14"/>
          <p:cNvSpPr/>
          <p:nvPr/>
        </p:nvSpPr>
        <p:spPr>
          <a:xfrm>
            <a:off x="1295280" y="15239880"/>
            <a:ext cx="10668240" cy="929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e6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1768320" y="15544800"/>
            <a:ext cx="9738000" cy="9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0560" rIns="250560" tIns="125280" bIns="125280" anchor="t">
            <a:noAutofit/>
          </a:bodyPr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Meet with faculty EAR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Help refine/shape assignm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Librarian office hou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Faculty participate in IL sess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Librarians participate in </a:t>
            </a:r>
            <a:br>
              <a:rPr sz="6000"/>
            </a:b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Peer Review pan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Coordinated assess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9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rcRect l="1332" t="50157" r="75521" b="8642"/>
          <a:stretch/>
        </p:blipFill>
        <p:spPr>
          <a:xfrm>
            <a:off x="34213680" y="8001000"/>
            <a:ext cx="6553440" cy="8748720"/>
          </a:xfrm>
          <a:prstGeom prst="rect">
            <a:avLst/>
          </a:prstGeom>
          <a:ln w="25560">
            <a:solidFill>
              <a:srgbClr val="de6225"/>
            </a:solidFill>
            <a:miter/>
          </a:ln>
        </p:spPr>
      </p:pic>
      <p:pic>
        <p:nvPicPr>
          <p:cNvPr id="61" name="Picture 2" descr=""/>
          <p:cNvPicPr/>
          <p:nvPr/>
        </p:nvPicPr>
        <p:blipFill>
          <a:blip r:embed="rId3"/>
          <a:srcRect l="13140" t="13263" r="15307" b="10714"/>
          <a:stretch/>
        </p:blipFill>
        <p:spPr>
          <a:xfrm>
            <a:off x="16687800" y="23064840"/>
            <a:ext cx="11506320" cy="9167760"/>
          </a:xfrm>
          <a:prstGeom prst="rect">
            <a:avLst/>
          </a:prstGeom>
          <a:ln w="25560">
            <a:solidFill>
              <a:srgbClr val="de6225"/>
            </a:solidFill>
            <a:miter/>
          </a:ln>
        </p:spPr>
      </p:pic>
      <p:sp>
        <p:nvSpPr>
          <p:cNvPr id="62" name="Text Box 5"/>
          <p:cNvSpPr/>
          <p:nvPr/>
        </p:nvSpPr>
        <p:spPr>
          <a:xfrm>
            <a:off x="14630400" y="20705760"/>
            <a:ext cx="1572732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8840" rIns="438840" tIns="219600" bIns="219600" anchor="t">
            <a:spAutoFit/>
          </a:bodyPr>
          <a:p>
            <a:pPr algn="ctr">
              <a:lnSpc>
                <a:spcPct val="100000"/>
              </a:lnSpc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de6225"/>
                </a:solidFill>
                <a:latin typeface="Tahoma"/>
                <a:ea typeface="Tahoma"/>
              </a:rPr>
              <a:t>Assignments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17525880" y="22402800"/>
            <a:ext cx="9601200" cy="0"/>
          </a:xfrm>
          <a:prstGeom prst="line">
            <a:avLst/>
          </a:prstGeom>
          <a:ln w="12600">
            <a:solidFill>
              <a:srgbClr val="de6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38840" rIns="438840" tIns="-219240" bIns="-219240" anchor="ctr">
            <a:noAutofit/>
          </a:bodyPr>
          <a:p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20"/>
          <p:cNvSpPr/>
          <p:nvPr/>
        </p:nvSpPr>
        <p:spPr>
          <a:xfrm>
            <a:off x="32156280" y="18288000"/>
            <a:ext cx="10668240" cy="982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de62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marL="939960" indent="-939960">
              <a:lnSpc>
                <a:spcPct val="10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Break into sizable chun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10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Design “just in time” assignment-driven IL </a:t>
            </a:r>
            <a:br>
              <a:rPr sz="6000"/>
            </a:b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sess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10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Build upon previous </a:t>
            </a:r>
            <a:br>
              <a:rPr sz="6000"/>
            </a:b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session(s) &amp; knowled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39960" indent="-939960">
              <a:lnSpc>
                <a:spcPct val="100000"/>
              </a:lnSpc>
              <a:spcBef>
                <a:spcPts val="1500"/>
              </a:spcBef>
              <a:buClr>
                <a:srgbClr val="003a6e"/>
              </a:buClr>
              <a:buFont typeface="Arial"/>
              <a:buChar char="•"/>
              <a:tabLst>
                <a:tab algn="l" pos="2506680"/>
                <a:tab algn="l" pos="5013360"/>
                <a:tab algn="l" pos="7520040"/>
                <a:tab algn="l" pos="10026720"/>
              </a:tabLst>
            </a:pPr>
            <a:r>
              <a:rPr b="0" lang="en-US" sz="6000" spc="-1" strike="noStrike">
                <a:solidFill>
                  <a:srgbClr val="003a6e"/>
                </a:solidFill>
                <a:latin typeface="Tahoma"/>
                <a:ea typeface="Tahoma"/>
              </a:rPr>
              <a:t>Include engaging activities (see handout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990720" y="13936680"/>
            <a:ext cx="1181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6e"/>
                </a:solidFill>
                <a:latin typeface="Tahoma"/>
                <a:ea typeface="Tahoma"/>
              </a:rPr>
              <a:t>Word cloud of intervention keywor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31623120" y="16984800"/>
            <a:ext cx="1181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6e"/>
                </a:solidFill>
                <a:latin typeface="Tahoma"/>
                <a:ea typeface="Tahoma"/>
              </a:rPr>
              <a:t>In-class source evaluation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1"/>
          <p:cNvSpPr/>
          <p:nvPr/>
        </p:nvSpPr>
        <p:spPr>
          <a:xfrm>
            <a:off x="31623120" y="31470480"/>
            <a:ext cx="11582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e6225"/>
                </a:solidFill>
                <a:latin typeface="Candara"/>
              </a:rPr>
              <a:t>Kayla Lenkner &amp; Meggan Smi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2" descr="Brainstorming 006.jpg"/>
          <p:cNvPicPr/>
          <p:nvPr/>
        </p:nvPicPr>
        <p:blipFill>
          <a:blip r:embed="rId4"/>
          <a:stretch/>
        </p:blipFill>
        <p:spPr>
          <a:xfrm>
            <a:off x="2438280" y="26161920"/>
            <a:ext cx="8382240" cy="6070680"/>
          </a:xfrm>
          <a:prstGeom prst="rect">
            <a:avLst/>
          </a:prstGeom>
          <a:ln w="25560">
            <a:solidFill>
              <a:srgbClr val="de6225"/>
            </a:solidFill>
            <a:miter/>
          </a:ln>
        </p:spPr>
      </p:pic>
      <p:sp>
        <p:nvSpPr>
          <p:cNvPr id="69" name="TextBox 21"/>
          <p:cNvSpPr/>
          <p:nvPr/>
        </p:nvSpPr>
        <p:spPr>
          <a:xfrm>
            <a:off x="457200" y="25138080"/>
            <a:ext cx="1318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a6e"/>
                </a:solidFill>
                <a:latin typeface="Tahoma"/>
                <a:ea typeface="Tahoma"/>
              </a:rPr>
              <a:t>Using Post-its to create a student-driven word 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7" descr="S:\Committees\Marketing\Wordmarks\Library (white).png"/>
          <p:cNvPicPr/>
          <p:nvPr/>
        </p:nvPicPr>
        <p:blipFill>
          <a:blip r:embed="rId5"/>
          <a:srcRect l="0" t="0" r="0" b="30375"/>
          <a:stretch/>
        </p:blipFill>
        <p:spPr>
          <a:xfrm>
            <a:off x="32766120" y="28955880"/>
            <a:ext cx="9443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3:12:42Z</dcterms:created>
  <dc:creator>Gettysburg College</dc:creator>
  <dc:description/>
  <dc:language>en-US</dc:language>
  <cp:lastModifiedBy>Information Technology</cp:lastModifiedBy>
  <cp:lastPrinted>2006-02-13T18:59:54Z</cp:lastPrinted>
  <dcterms:modified xsi:type="dcterms:W3CDTF">2012-10-01T19:44:01Z</dcterms:modified>
  <cp:revision>81</cp:revision>
  <dc:subject/>
  <dc:title>PowerPoint Presentation</dc:title>
</cp:coreProperties>
</file>